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0ED42-9368-4150-9B08-62A023518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F5AA8-A613-4FFF-B763-677A3E715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15B911-A269-4B98-9710-2EE54E8499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525D32-262F-4BAC-A3DE-E0FB6F1323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13B5E6-CBC2-45F9-A75D-57BA7A0108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BADB2C-C41D-4401-97FD-DE34CA539A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2161B2-A458-47E9-B80C-D67EDE73A8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27AEAC-3281-40C5-9844-B97093F8A5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9A370B-E79C-4324-B5F5-7BBC594422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93205F-65C9-4D47-B0E5-F9302ED043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D99159-AD93-45E7-8155-528F340BB1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5C47237-36D9-4C5D-B3CE-9B536F4D0E4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9ABEB-857C-4CD6-AD3B-7BA7BDA8C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342B65-89E4-4897-85FE-3889F68737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6E8264-C011-474B-9B2D-94134E4210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D41ECB-CB01-4F48-A531-94A8A71874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B06F91-5A9C-421B-859F-6CCB453E6F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D20750-DD07-49D5-B72C-0339261160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01BE71-5304-49D7-99AA-80ABC021C2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5B8C39-9FA6-4E98-B1BB-9F3F2565FB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9EFEB3-88CF-44EF-812E-816AAF0D44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A8F96D-5CBA-48CE-A251-3457F6D5A2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FB3D547-BDED-4DF0-AC16-DA5D9060DA4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AB88A-A147-407B-B9A3-E3D94C516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F4A25AF-0E9D-4115-8EA0-4405A681A80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30D7422-225F-476F-8781-08AFEE26754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5A6B1B-EA4E-4EDA-B984-22C45E4F09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FDC389-E56B-4F62-9AD0-006A704067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A354AE-70A1-41A7-9D6B-0BEEC1EF04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F1AC3B-4ED7-47C5-978F-ECD6015595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F9EEC6-6E05-4AA9-B4C2-579FA5DAA9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4B08C9-0C0A-4114-994C-CF4CC2BB30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46C46F-A30E-4D03-B42E-789D86C1B3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E24D5D-496F-4FAB-BAF7-31726FAB95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04D8DF-D8CE-4A4D-93FD-133264AA22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1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6A5CF0-DD0B-4D97-B73A-DD647B4652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DE87C43-8128-47EE-B69C-B06395F3E6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2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2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2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2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2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20E6AAB-2AC7-43E4-951B-498572C9B57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CE8DBAB6-12E0-4534-AF15-FA8A23D8E17B}"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BA718D7-3F52-4FB1-9308-9EA06D41E97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B017D94-2C88-4FCB-964A-1FDD8A1BCE5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FA14890-BE7D-43C3-A2EE-CD2EF0F3BB1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EE47696-3317-4E57-A062-1F7A6DED70B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A9B70E2-5F9B-4B0B-BC8E-F2FACC1AA0E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55298A3-AC8E-4891-930D-87BC509323B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19ECB-D9B5-46F7-88B9-03281D24A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4AA8FF7-C128-42B0-9BD2-F99DB296FC4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9DDF3B8-E5E3-4C6B-866F-33DFA909666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40BF94C-A513-48EE-BCF2-E7024EC535FF}"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5B4E5EF5-13E4-48D1-AE79-7016516A7E61}"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4F95BA9-667D-43DC-B294-13DA3B70446E}"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8E838-6FD4-4232-9A93-F3CBD1FCE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64FAC-1337-4739-B6FC-98683D499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381A4-89EB-4C18-BDB9-FF5384BF9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B569C-2B84-4E57-9CAB-F6F8102CE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289B8-6289-4C67-8054-EFD85A741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04F1D-D6FE-4944-A563-4AE81AA00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AE051-AD64-4AE2-A267-9417A5DC4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D805F-7D68-4BC7-9BC1-29092A8A8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B1E73-EC2B-4769-A74C-D2924B0DC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5B6F4F-AEF7-4A52-B0EF-F3F970C652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66948-D853-4863-8FA5-D8A56B2C98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8C24B1-70F5-4328-A945-18B548F545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5CADED-A50D-4A91-98A3-7CDED3C22F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9D43A2-13F6-4EEE-82B0-2852FD3F8F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B58930-3B9B-40FF-8077-D9F27AFB5B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55CD58-3D47-4C49-B9B0-0BF5ADC8C1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95C0F-2A50-405F-9918-5D33194DF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EFEF5C-ADE5-4EFB-A312-A96275B7F2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9621F4-B23E-4B08-9D9E-180CECE91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F55765-8E62-4650-B33A-59114ED57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239458-49AA-402A-ACFF-E186708746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807817-E15D-4E3A-B80B-BBE7356D03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A94E3E-9500-40D4-B1B5-EA6B3AFAE9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F5E789-B1F4-4234-B86C-2E9227E67E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655153-0DE6-45B0-B557-42026350FD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4DE003-9196-4780-A83B-0BA2983E3B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7721F0-8CCE-4173-841D-A9E18800AC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B5636-8380-4910-BC30-D1B6E1809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A704E6-31E4-4069-8E1C-748787D601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D22C59-6C26-4B3D-984A-A852C4A8BA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5DFC91-DF90-4EF7-B656-8FB59779D7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07964F-F1A5-4FCD-A9F1-3903F7479C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BFBC20-78EA-48BF-BFE0-529DF257FD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38232C-CA67-4E90-818D-FA1457FC98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E09427-73E2-4937-BF4C-51E60E0FB4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BAE024-C595-42FA-A693-AC1387373D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97ABF8-685E-4160-8FD3-6E1CBB5A16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42F15CB-319B-448E-8D15-BA6E2441534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C1424-3521-4AF4-B174-C551DA1A2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DD60546-4084-475E-BDD8-95C5BCF2385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8F4C76E-3304-4AB4-9D3C-411209FC79B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1AC4D9A-337C-4BBC-9722-800C2E71165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7871566-3E64-47C8-BE13-1C2869E85C2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50B66DA-57B6-4327-B56C-C013BD8FB68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6ABE44B-0AD7-4A70-B12C-C2CA40FF2A7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C7C6AB6-B414-417C-8479-3EFCC2F6CCC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98AD050-1CB9-4C40-8350-A816E16915E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08F4270-D1A9-4526-A849-6A0B0BCEFE8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03298ED-A265-4F4C-8D8D-EA314AEB280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A6A67-5968-4D3A-9445-A098C2567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5FEB8B6-90CF-433E-8E31-A86EAFE938B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AED789-22E5-453F-8395-878F941CFD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D38BB4-AA0D-4227-884A-F80C86EEB4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92C64F-308C-4EF7-9597-B3DC30DC3E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97E99C-1EBB-4503-A830-A652AF9DCD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91CB52-406A-4807-9A2C-0A934FA284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7CB162-E9B8-48D4-80F8-C3E0FF3975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BC4765-E0CC-4C64-A9E2-34E5FBB502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D7C8E0-A809-4AE1-A2AA-BF08258E6C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DC844F-F4BF-46E3-B6C0-01DDDB44AC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B2EB7-A95D-4C6A-B939-F53D948FA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7C9AB5-79FF-4916-99EE-6941FE78E0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DBB732-72AA-4A46-94E8-2F84A6842D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C3F532-13DD-4709-8649-54264B698D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99CF51-19E1-40D5-83C7-28AA04CED8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6757DC-0A0F-4F15-857E-838ABD7BD5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6BEAA9-5AAE-4CB5-B20C-DE658C47DB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28C900-7752-4A20-8C2C-C784FF88E4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A0BD23-14CC-4741-B142-BE794B08AC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A696E9-ADFD-4BF3-8154-EF533B1299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F8F022-5B2D-409F-A83C-50E7CFF602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11DE2-470A-4FBD-A1AD-7ABE47C3F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EBFAFC-57AC-48B6-B097-B3129274B1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E11952-5AB6-4C69-9EC9-DE7CD42DA9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2FDB3C-8CF1-4848-B507-6248D4000B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BD3F62-2EB4-4911-945C-828C35E776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D2D350-6895-4236-856B-D51716199D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619C27-54C7-40CF-AADA-0EB22D93B1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1D327F-BA56-4C72-9CA5-FAE66B7384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80EEAE-7357-4884-9DE7-55184C04AA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6228C2-2070-4833-BFAC-324149369A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CCA32B-E35D-42FD-8A97-A0624F18FE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C7125-6EFC-4F79-A894-8774DC26A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B1BA4A-8330-4720-8F1A-CAF7F9109E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953BDC-D604-4F62-8802-59B29CAF38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C8CC9C-A82A-418E-A4A6-0B056CF2AB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0F9F6A-A914-4A58-AF9B-A90AD0C414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159375-6470-4494-A7F2-BAEC6A13F5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4E8D54-2D86-4BAF-B559-E6296F8946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19393F-CA36-44F1-A2F9-B4ABA3D4EE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9E2A1F-09F5-4A4B-9F57-47636C5606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999BD6-2898-4EFF-B197-75F05DEC1E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7261C8-4B5F-4FD1-944F-F51EC884397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C15E7-351A-4219-80A2-11D58263603B}"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795" name=""/>
          <p:cNvGrpSpPr/>
          <p:nvPr/>
        </p:nvGrpSpPr>
        <p:grpSpPr>
          <a:xfrm>
            <a:off x="3600" y="1422360"/>
            <a:ext cx="9143640" cy="5435640"/>
            <a:chOff x="3600" y="1422360"/>
            <a:chExt cx="9143640" cy="5435640"/>
          </a:xfrm>
        </p:grpSpPr>
        <p:grpSp>
          <p:nvGrpSpPr>
            <p:cNvPr id="796" name=""/>
            <p:cNvGrpSpPr/>
            <p:nvPr/>
          </p:nvGrpSpPr>
          <p:grpSpPr>
            <a:xfrm>
              <a:off x="31680" y="1422360"/>
              <a:ext cx="9115560" cy="5435640"/>
              <a:chOff x="31680" y="1422360"/>
              <a:chExt cx="9115560" cy="5435640"/>
            </a:xfrm>
          </p:grpSpPr>
          <p:sp>
            <p:nvSpPr>
              <p:cNvPr id="797"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98"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99"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0"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1"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2"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3"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4"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6"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7"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8"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9"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810" name=""/>
            <p:cNvGrpSpPr/>
            <p:nvPr/>
          </p:nvGrpSpPr>
          <p:grpSpPr>
            <a:xfrm>
              <a:off x="3600" y="3639960"/>
              <a:ext cx="2193840" cy="2694240"/>
              <a:chOff x="3600" y="3639960"/>
              <a:chExt cx="2193840" cy="2694240"/>
            </a:xfrm>
          </p:grpSpPr>
          <p:sp>
            <p:nvSpPr>
              <p:cNvPr id="811"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812"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3"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814"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815"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6"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7"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8"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9"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0"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1"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822"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3"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4"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5"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6"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7"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8"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829"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0"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1"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2"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3"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4"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5"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6"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7"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8"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9"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0"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1"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2"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3"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4"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5"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6"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7"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8"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9"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0"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851"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2"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3"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4"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5"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6"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7"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8"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9"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0"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1"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2"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3"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864"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5"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6"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7"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8"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9"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0"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1"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2"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3"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4"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6"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7"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8"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9"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0"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1"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2"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3"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4"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885"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6"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7"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8"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9"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0"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1"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2"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3"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4"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5"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6"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7"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8"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9"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00"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901"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02"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03"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04"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05"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06"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07"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08"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09"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0"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1"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2"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3"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4"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5"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6"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7"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8"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9"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0"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1"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2"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3"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4"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5"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6"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7"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8"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9"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30"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31"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5"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38"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39"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941"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42"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3"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4"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45"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4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947" name="PlaceHolder 2"/>
          <p:cNvSpPr>
            <a:spLocks noGrp="1"/>
          </p:cNvSpPr>
          <p:nvPr>
            <p:ph type="dt" idx="28"/>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948"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949" name="PlaceHolder 4"/>
          <p:cNvSpPr>
            <a:spLocks noGrp="1"/>
          </p:cNvSpPr>
          <p:nvPr>
            <p:ph type="sldNum" idx="30"/>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9C49-6859-485B-887A-472911211235}"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8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8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98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9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58F7-C1C2-4B39-9977-34B961C9C56D}"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028"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PlaceHolder 2"/>
          <p:cNvSpPr>
            <a:spLocks noGrp="1"/>
          </p:cNvSpPr>
          <p:nvPr>
            <p:ph type="ftr" idx="3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0" name="PlaceHolder 3"/>
          <p:cNvSpPr>
            <a:spLocks noGrp="1"/>
          </p:cNvSpPr>
          <p:nvPr>
            <p:ph type="sldNum" idx="3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1336D-7F93-495E-9BED-069AFD478A04}"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031" name="PlaceHolder 4"/>
          <p:cNvSpPr>
            <a:spLocks noGrp="1"/>
          </p:cNvSpPr>
          <p:nvPr>
            <p:ph type="dt" idx="3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3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0A10A-AE36-498C-AD0D-BA5CDE19CD9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55" name=""/>
          <p:cNvGrpSpPr/>
          <p:nvPr/>
        </p:nvGrpSpPr>
        <p:grpSpPr>
          <a:xfrm>
            <a:off x="4716360" y="5345280"/>
            <a:ext cx="4427640" cy="1512720"/>
            <a:chOff x="4716360" y="5345280"/>
            <a:chExt cx="4427640" cy="1512720"/>
          </a:xfrm>
        </p:grpSpPr>
        <p:sp>
          <p:nvSpPr>
            <p:cNvPr id="156"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8"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9"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2"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7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74"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2CD9-A02C-408C-AF09-D81E005ECEA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75"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212" name=""/>
          <p:cNvGrpSpPr/>
          <p:nvPr/>
        </p:nvGrpSpPr>
        <p:grpSpPr>
          <a:xfrm>
            <a:off x="4716360" y="5345280"/>
            <a:ext cx="4427640" cy="1512720"/>
            <a:chOff x="4716360" y="5345280"/>
            <a:chExt cx="4427640" cy="1512720"/>
          </a:xfrm>
        </p:grpSpPr>
        <p:sp>
          <p:nvSpPr>
            <p:cNvPr id="213"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5"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6"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229"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3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31"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86CE-FBE0-46C1-8928-3D15746603C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68" name=""/>
          <p:cNvGrpSpPr/>
          <p:nvPr/>
        </p:nvGrpSpPr>
        <p:grpSpPr>
          <a:xfrm>
            <a:off x="0" y="0"/>
            <a:ext cx="9159840" cy="6858000"/>
            <a:chOff x="0" y="0"/>
            <a:chExt cx="9159840" cy="6858000"/>
          </a:xfrm>
        </p:grpSpPr>
        <p:sp>
          <p:nvSpPr>
            <p:cNvPr id="269"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9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2"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93" name="PlaceHolder 4"/>
          <p:cNvSpPr>
            <a:spLocks noGrp="1"/>
          </p:cNvSpPr>
          <p:nvPr>
            <p:ph type="sldNum" idx="1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0B749-0918-4E36-849C-EEC8D6B84C7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94" name="PlaceHolder 5"/>
          <p:cNvSpPr>
            <a:spLocks noGrp="1"/>
          </p:cNvSpPr>
          <p:nvPr>
            <p:ph type="dt" idx="15"/>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31" name=""/>
          <p:cNvGrpSpPr/>
          <p:nvPr/>
        </p:nvGrpSpPr>
        <p:grpSpPr>
          <a:xfrm>
            <a:off x="0" y="0"/>
            <a:ext cx="9159840" cy="6858000"/>
            <a:chOff x="0" y="0"/>
            <a:chExt cx="9159840" cy="6858000"/>
          </a:xfrm>
        </p:grpSpPr>
        <p:sp>
          <p:nvSpPr>
            <p:cNvPr id="33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35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5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5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62F9-4807-40A6-A2C2-B9908C4345D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3"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94" name=""/>
          <p:cNvGrpSpPr/>
          <p:nvPr/>
        </p:nvGrpSpPr>
        <p:grpSpPr>
          <a:xfrm>
            <a:off x="3240" y="4267080"/>
            <a:ext cx="9140760" cy="2590920"/>
            <a:chOff x="3240" y="4267080"/>
            <a:chExt cx="9140760" cy="2590920"/>
          </a:xfrm>
        </p:grpSpPr>
        <p:sp>
          <p:nvSpPr>
            <p:cNvPr id="395"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96" name=""/>
            <p:cNvGrpSpPr/>
            <p:nvPr/>
          </p:nvGrpSpPr>
          <p:grpSpPr>
            <a:xfrm>
              <a:off x="5600880" y="5897520"/>
              <a:ext cx="1256760" cy="827280"/>
              <a:chOff x="5600880" y="5897520"/>
              <a:chExt cx="1256760" cy="827280"/>
            </a:xfrm>
          </p:grpSpPr>
          <p:sp>
            <p:nvSpPr>
              <p:cNvPr id="397"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07"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408" name=""/>
            <p:cNvGrpSpPr/>
            <p:nvPr/>
          </p:nvGrpSpPr>
          <p:grpSpPr>
            <a:xfrm>
              <a:off x="2819520" y="5764320"/>
              <a:ext cx="2581200" cy="1084320"/>
              <a:chOff x="2819520" y="5764320"/>
              <a:chExt cx="2581200" cy="1084320"/>
            </a:xfrm>
          </p:grpSpPr>
          <p:sp>
            <p:nvSpPr>
              <p:cNvPr id="409"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417"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7" name=""/>
            <p:cNvGrpSpPr/>
            <p:nvPr/>
          </p:nvGrpSpPr>
          <p:grpSpPr>
            <a:xfrm>
              <a:off x="6553080" y="5334120"/>
              <a:ext cx="2144880" cy="1303200"/>
              <a:chOff x="6553080" y="5334120"/>
              <a:chExt cx="2144880" cy="1303200"/>
            </a:xfrm>
          </p:grpSpPr>
          <p:sp>
            <p:nvSpPr>
              <p:cNvPr id="428"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2"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9"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445" name=""/>
            <p:cNvGrpSpPr/>
            <p:nvPr/>
          </p:nvGrpSpPr>
          <p:grpSpPr>
            <a:xfrm>
              <a:off x="8381880" y="4800600"/>
              <a:ext cx="674640" cy="409680"/>
              <a:chOff x="8381880" y="4800600"/>
              <a:chExt cx="674640" cy="409680"/>
            </a:xfrm>
          </p:grpSpPr>
          <p:sp>
            <p:nvSpPr>
              <p:cNvPr id="446"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8"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50"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3" name=""/>
              <p:cNvGrpSpPr/>
              <p:nvPr/>
            </p:nvGrpSpPr>
            <p:grpSpPr>
              <a:xfrm>
                <a:off x="8542440" y="4897440"/>
                <a:ext cx="360360" cy="209520"/>
                <a:chOff x="8542440" y="4897440"/>
                <a:chExt cx="360360" cy="209520"/>
              </a:xfrm>
            </p:grpSpPr>
            <p:sp>
              <p:nvSpPr>
                <p:cNvPr id="454"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7"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6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6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8C233-80E0-45A5-B6C0-29184288A3F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499" name=""/>
          <p:cNvGrpSpPr/>
          <p:nvPr/>
        </p:nvGrpSpPr>
        <p:grpSpPr>
          <a:xfrm>
            <a:off x="3240" y="4267080"/>
            <a:ext cx="9140760" cy="2590920"/>
            <a:chOff x="3240" y="4267080"/>
            <a:chExt cx="9140760" cy="2590920"/>
          </a:xfrm>
        </p:grpSpPr>
        <p:sp>
          <p:nvSpPr>
            <p:cNvPr id="500"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1" name=""/>
            <p:cNvGrpSpPr/>
            <p:nvPr/>
          </p:nvGrpSpPr>
          <p:grpSpPr>
            <a:xfrm>
              <a:off x="5600880" y="5897520"/>
              <a:ext cx="1256760" cy="827280"/>
              <a:chOff x="5600880" y="5897520"/>
              <a:chExt cx="1256760" cy="827280"/>
            </a:xfrm>
          </p:grpSpPr>
          <p:sp>
            <p:nvSpPr>
              <p:cNvPr id="502"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12"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513" name=""/>
            <p:cNvGrpSpPr/>
            <p:nvPr/>
          </p:nvGrpSpPr>
          <p:grpSpPr>
            <a:xfrm>
              <a:off x="2819520" y="5764320"/>
              <a:ext cx="2581200" cy="1084320"/>
              <a:chOff x="2819520" y="5764320"/>
              <a:chExt cx="2581200" cy="1084320"/>
            </a:xfrm>
          </p:grpSpPr>
          <p:sp>
            <p:nvSpPr>
              <p:cNvPr id="514"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522"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32" name=""/>
            <p:cNvGrpSpPr/>
            <p:nvPr/>
          </p:nvGrpSpPr>
          <p:grpSpPr>
            <a:xfrm>
              <a:off x="6553080" y="5334120"/>
              <a:ext cx="2144880" cy="1303200"/>
              <a:chOff x="6553080" y="5334120"/>
              <a:chExt cx="2144880" cy="1303200"/>
            </a:xfrm>
          </p:grpSpPr>
          <p:sp>
            <p:nvSpPr>
              <p:cNvPr id="533"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37"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44"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50" name=""/>
            <p:cNvGrpSpPr/>
            <p:nvPr/>
          </p:nvGrpSpPr>
          <p:grpSpPr>
            <a:xfrm>
              <a:off x="8381880" y="4800600"/>
              <a:ext cx="674640" cy="409680"/>
              <a:chOff x="8381880" y="4800600"/>
              <a:chExt cx="674640" cy="409680"/>
            </a:xfrm>
          </p:grpSpPr>
          <p:sp>
            <p:nvSpPr>
              <p:cNvPr id="551"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3"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55"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58" name=""/>
              <p:cNvGrpSpPr/>
              <p:nvPr/>
            </p:nvGrpSpPr>
            <p:grpSpPr>
              <a:xfrm>
                <a:off x="8542440" y="4897440"/>
                <a:ext cx="360360" cy="209520"/>
                <a:chOff x="8542440" y="4897440"/>
                <a:chExt cx="360360" cy="209520"/>
              </a:xfrm>
            </p:grpSpPr>
            <p:sp>
              <p:nvSpPr>
                <p:cNvPr id="559"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2"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5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64"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565"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66"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608C-9B35-4D97-9186-DD051051BB5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603" name=""/>
          <p:cNvGrpSpPr/>
          <p:nvPr/>
        </p:nvGrpSpPr>
        <p:grpSpPr>
          <a:xfrm>
            <a:off x="3600" y="1422360"/>
            <a:ext cx="9143640" cy="5435640"/>
            <a:chOff x="3600" y="1422360"/>
            <a:chExt cx="9143640" cy="5435640"/>
          </a:xfrm>
        </p:grpSpPr>
        <p:grpSp>
          <p:nvGrpSpPr>
            <p:cNvPr id="604" name=""/>
            <p:cNvGrpSpPr/>
            <p:nvPr/>
          </p:nvGrpSpPr>
          <p:grpSpPr>
            <a:xfrm>
              <a:off x="31680" y="1422360"/>
              <a:ext cx="9115560" cy="5435640"/>
              <a:chOff x="31680" y="1422360"/>
              <a:chExt cx="9115560" cy="5435640"/>
            </a:xfrm>
          </p:grpSpPr>
          <p:sp>
            <p:nvSpPr>
              <p:cNvPr id="605"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06"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07"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08"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09"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10"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11"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12"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13"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14"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15"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16"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17"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618" name=""/>
            <p:cNvGrpSpPr/>
            <p:nvPr/>
          </p:nvGrpSpPr>
          <p:grpSpPr>
            <a:xfrm>
              <a:off x="3600" y="3639960"/>
              <a:ext cx="2193840" cy="2694240"/>
              <a:chOff x="3600" y="3639960"/>
              <a:chExt cx="2193840" cy="2694240"/>
            </a:xfrm>
          </p:grpSpPr>
          <p:sp>
            <p:nvSpPr>
              <p:cNvPr id="619"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20"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1"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22"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23"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4"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5"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6"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7"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8"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9"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30"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1"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2"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3"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4"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5"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6"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37"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8"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9"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0"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1"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2"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3"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4"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5"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6"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7"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8"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9"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0"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1"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2"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3"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4"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5"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6"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7"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8"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59"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0"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1"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2"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3"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4"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5"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6"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7"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8"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9"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0"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1"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72"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3"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4"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5"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6"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7"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8"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9"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0"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1"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2"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4"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5"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6"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7"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8"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9"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90"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91"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92"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93"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94"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95"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96"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97"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98"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99"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0"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1"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2"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3"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4"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5"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6"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7"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8"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709"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0"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1"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2"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3"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4"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5"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6"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7"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8"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9"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0"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1"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2"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3"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4"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5"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6"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7"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8"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9"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0"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1"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2"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3"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4"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5"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6"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7"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8"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9"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6"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7"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749"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50"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53"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755" name="PlaceHolder 2"/>
          <p:cNvSpPr>
            <a:spLocks noGrp="1"/>
          </p:cNvSpPr>
          <p:nvPr>
            <p:ph type="dt" idx="25"/>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56" name="PlaceHolder 3"/>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57" name="PlaceHolder 4"/>
          <p:cNvSpPr>
            <a:spLocks noGrp="1"/>
          </p:cNvSpPr>
          <p:nvPr>
            <p:ph type="sldNum" idx="27"/>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9E3E3-15CE-4641-9E41-A2C6676EB51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58"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2149200"/>
            <a:ext cx="7772400" cy="1111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ick Oliver’s Reflection Statement</a:t>
            </a:r>
            <a:endParaRPr b="0" lang="en-US" sz="4400" spc="-1" strike="noStrike">
              <a:solidFill>
                <a:srgbClr val="ffffff"/>
              </a:solidFill>
              <a:latin typeface="Tahoma"/>
            </a:endParaRPr>
          </a:p>
        </p:txBody>
      </p:sp>
      <p:sp>
        <p:nvSpPr>
          <p:cNvPr id="10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 April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071" name=""/>
          <p:cNvSpPr/>
          <p:nvPr/>
        </p:nvSpPr>
        <p:spPr>
          <a:xfrm>
            <a:off x="457200" y="1295280"/>
            <a:ext cx="800100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learned that the backward design model is the way to plan a unit because you start out by figuring out what the students need to know and plan the lessons accordingly.</a:t>
            </a:r>
            <a:endParaRPr b="0" lang="en-US" sz="2400" spc="-1" strike="noStrike">
              <a:solidFill>
                <a:srgbClr val="ffffff"/>
              </a:solidFill>
              <a:latin typeface="Times New Roman"/>
            </a:endParaRPr>
          </a:p>
          <a:p>
            <a:pPr>
              <a:spcBef>
                <a:spcPts val="15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erentiated instruction is important because all students learn differently and the job of the teacher is to help the students learn in a way that is meaningful to them.</a:t>
            </a:r>
            <a:endParaRPr b="0" lang="en-US" sz="2400" spc="-1" strike="noStrike">
              <a:solidFill>
                <a:srgbClr val="ffffff"/>
              </a:solidFill>
              <a:latin typeface="Times New Roman"/>
            </a:endParaRPr>
          </a:p>
          <a:p>
            <a:pPr>
              <a:spcBef>
                <a:spcPts val="15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zzes and tests are not the only way to measure understanding. Giving formative assessments like non-graded assignments and in-class work can help the teacher measure progress throughout the lesson. This way, both the teacher and the student are aware of whether or not the student is grasping the material BEFORE the summative assessment.</a:t>
            </a:r>
            <a:endParaRPr b="0" lang="en-US" sz="2400" spc="-1" strike="noStrike">
              <a:solidFill>
                <a:srgbClr val="ffffff"/>
              </a:solidFill>
              <a:latin typeface="Times New Roman"/>
            </a:endParaRPr>
          </a:p>
        </p:txBody>
      </p:sp>
      <p:sp>
        <p:nvSpPr>
          <p:cNvPr id="1072" name=""/>
          <p:cNvSpPr/>
          <p:nvPr/>
        </p:nvSpPr>
        <p:spPr>
          <a:xfrm>
            <a:off x="533520" y="30492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swering Essential Ques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73" name=""/>
          <p:cNvSpPr/>
          <p:nvPr/>
        </p:nvSpPr>
        <p:spPr>
          <a:xfrm>
            <a:off x="609480" y="83808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learned a lot from practicum. There is so much information that will stay with me. Integrating technology in the classroom, creating lessons, and starting to think like a teacher are some of the main things I have learned.</a:t>
            </a:r>
            <a:endParaRPr b="0" lang="en-US" sz="2400" spc="-1" strike="noStrike">
              <a:solidFill>
                <a:srgbClr val="ffffff"/>
              </a:solidFill>
              <a:latin typeface="Times New Roman"/>
            </a:endParaRPr>
          </a:p>
        </p:txBody>
      </p:sp>
      <p:sp>
        <p:nvSpPr>
          <p:cNvPr id="1074" name=""/>
          <p:cNvSpPr/>
          <p:nvPr/>
        </p:nvSpPr>
        <p:spPr>
          <a:xfrm>
            <a:off x="685800" y="297180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75" name=""/>
          <p:cNvSpPr/>
          <p:nvPr/>
        </p:nvSpPr>
        <p:spPr>
          <a:xfrm>
            <a:off x="1066680" y="1066680"/>
            <a:ext cx="7162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eaching experience I gained in the field will stay with me for a long time. It has helped me become a better teacher. Instead of being fairly confident in front of students, I am now extremely confident and I know that I will be able to handle myself well from now on. Because of this I am confident that I will change the worl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76" name=""/>
          <p:cNvSpPr/>
          <p:nvPr/>
        </p:nvSpPr>
        <p:spPr>
          <a:xfrm>
            <a:off x="990720" y="533520"/>
            <a:ext cx="7467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major thing that changed for me is that when I started practicum, I wanted to teach the higher grades in high school only. My experience with Mr. Main has made me enjoy teaching freshmen and I am glad that I am now comfortable teaching all high school grade leve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77" name=""/>
          <p:cNvSpPr/>
          <p:nvPr/>
        </p:nvSpPr>
        <p:spPr>
          <a:xfrm>
            <a:off x="838080" y="914400"/>
            <a:ext cx="7620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fore practicum I was unaware of teaching to the MIs and I was standing up in front of the class trying to engage the students by talking. Now I can figure out ways to engage students that do not just involve talk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78" name=""/>
          <p:cNvSpPr/>
          <p:nvPr/>
        </p:nvSpPr>
        <p:spPr>
          <a:xfrm>
            <a:off x="533520" y="762120"/>
            <a:ext cx="80769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definitely learned more from this class than I ever could have from just volunteering at my former high school. I am very glad that I decided to take practicum- even though it was a nightmare at tim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23:01:13Z</dcterms:created>
  <dc:creator>UMF</dc:creator>
  <dc:description/>
  <dc:language>en-US</dc:language>
  <cp:lastModifiedBy>U Maine Farmington</cp:lastModifiedBy>
  <dcterms:modified xsi:type="dcterms:W3CDTF">2008-04-10T11:24:52Z</dcterms:modified>
  <cp:revision>5</cp:revision>
  <dc:subject/>
  <dc:title>Nick Oliver’s Reflection Statement</dc:title>
</cp:coreProperties>
</file>